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F8F-B0CC-4C92-845D-F0FA1ABE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035-0648-427F-9713-DD64F21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0DC-4E74-4213-90E3-3BE695D4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75A-231D-4FDB-8644-E301669B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DFC-A999-4717-99CD-BB60254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111-9492-495A-95A4-D0EF6359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CB1-89F0-4E51-866E-87730A13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BC3-151D-4104-A3F0-518664C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9C7-ED99-4ED9-B93F-089D483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226-B05C-48F0-9A2D-F779BAC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18F-B583-4262-BA71-20231C3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11A-E116-41C5-AD26-F13E7B3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3AD-2A31-4CC7-9738-108C5FF10E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Please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team name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g. Organize IP meeting (B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08/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ion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g. Develop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ender checklis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oject tea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9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reviewer, layouts, distrib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eleborgne</cp:lastModifiedBy>
  <dcterms:modified xsi:type="dcterms:W3CDTF">2012-07-05T11:10:57Z</dcterms:modified>
  <cp:revision>3</cp:revision>
  <dc:subject/>
  <dc:title>IM Goats action plan July 2012</dc:title>
</cp:coreProperties>
</file>